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benefits of electronic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from home/ on holidays / during absences /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building partners wi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it during other strands/top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8AC9-3A9E-4EA3-9B82-7B4A63083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02CD-E4AC-4681-93BC-9CA0CBB4C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84AF-B107-4D80-9935-3AAF5FA4C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4064-9CA6-4B3D-A7C0-4E28D18DC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0B42-A5CB-4483-8CF3-5356B5410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3C81-E017-4581-B7F4-106B6D054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40DA-B45F-460F-B91A-6492969F9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DA19-BF02-4910-B17A-D5A6FBE77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C595-C324-46CE-9B9C-3F4F849BE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7EE3-3F52-415B-BF3E-FE4050957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558A-39B8-4D33-80BC-C00443226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4301-287B-4383-93DE-2E2171AF8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696F-256F-48D7-9A96-B468FE9A33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ains-camppp.wikispaces.com/file/view/Learning%2BWalls%2BArticle.pdf" TargetMode="External"/><Relationship Id="rId2" Type="http://schemas.openxmlformats.org/officeDocument/2006/relationships/hyperlink" Target="http://gains-camppp.wikispaces.com/file/view/Learning%2BWalls%2BArticle.pd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ame.on.ca/CLIPS/" TargetMode="External"/><Relationship Id="rId2" Type="http://schemas.openxmlformats.org/officeDocument/2006/relationships/hyperlink" Target="http://www.edugains.ca/newsite/math2/index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FE2-6AB5-40B4-B6DC-06090E7402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5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ing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T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/have you used portfol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/have you used learning wa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DDF2-D4C1-4551-9E2F-96F485DFF4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888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3BD8-02AD-464E-A1AE-352AEB9CA6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athLearningWall"/>
          <p:cNvPicPr/>
          <p:nvPr/>
        </p:nvPicPr>
        <p:blipFill>
          <a:blip r:embed="rId1"/>
          <a:stretch/>
        </p:blipFill>
        <p:spPr>
          <a:xfrm>
            <a:off x="2438280" y="2041560"/>
            <a:ext cx="6201000" cy="42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5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98720" y="1752480"/>
            <a:ext cx="70689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lated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ains-camppp.wikispaces.com/file/view/Learning%2BWalls%2BArtic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3E1-607B-4302-83D0-2CD5B70BA8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733920" y="1371600"/>
            <a:ext cx="4800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4648320"/>
            <a:ext cx="8229600" cy="1466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351A-B714-473A-9923-E1AABAB952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E0E4-F39D-4DF0-ADCD-258E43E94D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 rot="1060800">
            <a:off x="5618160" y="740880"/>
            <a:ext cx="2890800" cy="3329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49400" y="1447920"/>
            <a:ext cx="51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udent assessment purposes, a portfolio can be defined as "a purposeful collection of student performances that exhibits a student's effort, progress and achievement over a period of ti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Hibbard et al, 1996, p. 18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Expert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groups of 5 (this is your home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from 1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s meet with ones, twos with tw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your expert group read and discusses assigned section from the Saskatchewan Professional Development Unit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Portfolios: More Than Just a Folder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1D97-8D38-4B50-B82B-42F881714C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Home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s return to hom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999E-F38B-4C61-88FC-C400BDE404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816800" y="2140200"/>
            <a:ext cx="3575520" cy="3617640"/>
            <a:chOff x="4816800" y="2140200"/>
            <a:chExt cx="3575520" cy="3617640"/>
          </a:xfrm>
        </p:grpSpPr>
        <p:sp>
          <p:nvSpPr>
            <p:cNvPr id="103" name="Right Arrow Callout 4"/>
            <p:cNvSpPr/>
            <p:nvPr/>
          </p:nvSpPr>
          <p:spPr>
            <a:xfrm rot="809400">
              <a:off x="4955760" y="3015360"/>
              <a:ext cx="1341000" cy="1351440"/>
            </a:xfrm>
            <a:prstGeom prst="rightArrowCallout">
              <a:avLst>
                <a:gd name="adj1" fmla="val 25197"/>
                <a:gd name="adj2" fmla="val 25195"/>
                <a:gd name="adj3" fmla="val 25000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own Arrow Callout 5"/>
            <p:cNvSpPr/>
            <p:nvPr/>
          </p:nvSpPr>
          <p:spPr>
            <a:xfrm rot="809400">
              <a:off x="6167160" y="2277720"/>
              <a:ext cx="1341000" cy="1351440"/>
            </a:xfrm>
            <a:prstGeom prst="downArrowCallout">
              <a:avLst>
                <a:gd name="adj1" fmla="val 25002"/>
                <a:gd name="adj2" fmla="val 25000"/>
                <a:gd name="adj3" fmla="val 25195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eft Arrow Callout 6"/>
            <p:cNvSpPr/>
            <p:nvPr/>
          </p:nvSpPr>
          <p:spPr>
            <a:xfrm rot="809400">
              <a:off x="6912000" y="3484800"/>
              <a:ext cx="1341000" cy="1351440"/>
            </a:xfrm>
            <a:prstGeom prst="leftArrowCallout">
              <a:avLst>
                <a:gd name="adj1" fmla="val 25197"/>
                <a:gd name="adj2" fmla="val 25195"/>
                <a:gd name="adj3" fmla="val 25000"/>
                <a:gd name="adj4" fmla="val 649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Up Arrow Callout 7"/>
            <p:cNvSpPr/>
            <p:nvPr/>
          </p:nvSpPr>
          <p:spPr>
            <a:xfrm rot="809400">
              <a:off x="5689800" y="4268520"/>
              <a:ext cx="1341000" cy="1351440"/>
            </a:xfrm>
            <a:prstGeom prst="upArrowCallout">
              <a:avLst>
                <a:gd name="adj1" fmla="val 25002"/>
                <a:gd name="adj2" fmla="val 25000"/>
                <a:gd name="adj3" fmla="val 25195"/>
                <a:gd name="adj4" fmla="val 70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20920" y="152280"/>
            <a:ext cx="592308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EVER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3124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evernote.com/schoo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structions for creating a portfolio using EVER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blog.evernote.com/2012/02/28/how-to-create-a-portfolio-with-evernote-education-seri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8A9E-929D-4B6B-A209-3FE93B77AF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ilding a Learning Wall/Portfoli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may work electronically or 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ossible op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Prezi / Pap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Math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a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pdate/Beautify our class Learning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ther…i.e., explore CLIPS, Math GAINS si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AAF2-8E75-4AB2-8AA3-4BCF2355BF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rculate and explore each other’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brief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77ED-042C-419D-9553-3E38684F4C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46512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as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ng the Meaning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S/Epractice and the Math GAIN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Discussion and low key working period on Portfolios and 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3A7-3996-41D8-9A80-5C2A66FEDD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yground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has just build a new playground.  ¾ of the playground is for field activities, and the rest of the yard is paved.  ½ of the paved area is for hopscotch squares.  How much of the playground is designated for hopsco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35D3-B110-49D5-9FA0-E4A70818A1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 of the Meaning of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le group will pick one of the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consolidate the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11x17 poster that illustrates our best thinking at this point in time the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39DD-42E5-4154-8D9D-D4CEBD0DD0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C91F-E8FE-498B-8DB3-6D094865D5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PS and Math GAI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th G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7F51-EDF3-4D0F-AA8F-6CD1EB0B96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Assessment of Leaning as a continuous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learning walls and portfolios as an opportunity for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portfolios and learning wall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250F-751A-49D3-AC8B-24641A3A57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340C-A255-4B82-BC9A-B53EB13ECF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side 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wo circles - one insid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on the inside face participants in the outs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in the outside circle will rotate according to facilitato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the prompt with the person across from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81C3-E2A5-4B8D-8CB3-BD6137645A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nut 4"/>
          <p:cNvSpPr/>
          <p:nvPr/>
        </p:nvSpPr>
        <p:spPr>
          <a:xfrm>
            <a:off x="6705720" y="304920"/>
            <a:ext cx="1218960" cy="1218960"/>
          </a:xfrm>
          <a:custGeom>
            <a:avLst/>
            <a:gdLst/>
            <a:ahLst/>
            <a:rect l="l" t="t" r="r" b="b"/>
            <a:pathLst>
              <a:path w="1219200" h="1219200">
                <a:moveTo>
                  <a:pt x="0" y="609600"/>
                </a:moveTo>
                <a:cubicBezTo>
                  <a:pt x="0" y="272927"/>
                  <a:pt x="272927" y="0"/>
                  <a:pt x="609600" y="0"/>
                </a:cubicBezTo>
                <a:cubicBezTo>
                  <a:pt x="946273" y="0"/>
                  <a:pt x="1219200" y="272927"/>
                  <a:pt x="1219200" y="609600"/>
                </a:cubicBezTo>
                <a:cubicBezTo>
                  <a:pt x="1219200" y="946273"/>
                  <a:pt x="946273" y="1219200"/>
                  <a:pt x="609600" y="1219200"/>
                </a:cubicBezTo>
                <a:cubicBezTo>
                  <a:pt x="272927" y="1219200"/>
                  <a:pt x="0" y="946273"/>
                  <a:pt x="0" y="609600"/>
                </a:cubicBezTo>
                <a:close/>
                <a:moveTo>
                  <a:pt x="304800" y="609600"/>
                </a:moveTo>
                <a:cubicBezTo>
                  <a:pt x="304800" y="777936"/>
                  <a:pt x="441264" y="914400"/>
                  <a:pt x="609600" y="914400"/>
                </a:cubicBezTo>
                <a:cubicBezTo>
                  <a:pt x="777936" y="914400"/>
                  <a:pt x="914400" y="777936"/>
                  <a:pt x="914400" y="609600"/>
                </a:cubicBezTo>
                <a:cubicBezTo>
                  <a:pt x="914400" y="441264"/>
                  <a:pt x="777936" y="304800"/>
                  <a:pt x="609600" y="304800"/>
                </a:cubicBezTo>
                <a:cubicBezTo>
                  <a:pt x="441264" y="304800"/>
                  <a:pt x="304800" y="441264"/>
                  <a:pt x="304800" y="6096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8-22T20:24:40Z</dcterms:modified>
  <cp:revision>41</cp:revision>
  <dc:subject/>
  <dc:title>&lt;Title&gt;</dc:title>
</cp:coreProperties>
</file>